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748BC-CDA4-43A3-BCB6-4CDD84300C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и формы бизне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и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ник 8 класса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сёнов Григорий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и формы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и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ник 8 класса 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сёнов Григорий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вестные лич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ом успешности соединения в предпринимательстве его основных видов является деятельность итальянского семейства Медич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еще в 15 веке во Флоренции они организовали производство сукна, горное дело, широко развернули торговлю и операции с деньгами (предлагали людям среднего достатка дешевые кредит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вестные лич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ром успешности соединения в предпринимательстве его основных видов является деятельность итальянского семейства Медич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и еще в 15 веке во Флоренции они организовали производство сукна, горное дело, широко развернули торговлю и операции с деньгами (предлагали людям среднего достатка дешевые кредиты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ое предприят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редприятие, которым владеет и управляет один человек (он единственный хозяин, но вправе нанимать других работников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ко предприниматель несет личную ответственность за успех или неудачу предприятия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окий воин в поле бизнеса – слабый воин. Поэтому многие предприниматели стремятся объединить свои средства и усилия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дивидуальное предприя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предприятие, которым владеет и управляет один человек (он единственный хозяин, но вправе нанимать других работников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ако предприниматель несет личную ответственность за успех или неудачу предприятия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инокий воин в поле бизнеса – слабый воин. Поэтому многие предприниматели стремятся объединить свои средства и усилия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ищ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добровольное объединение двух или более человек для организации своего дела и совместной раб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ники объединяют свои деньги, способности и, управляя предприятием, несут коллективную ответственность за результаты его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варищ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добровольное объединение двух или более человек для организации своего дела и совместной рабо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ники объединяют свои деньги, способности и, управляя предприятием, несут коллективную ответственность за результаты его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ионерное общ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редприятие, собственником которого выступают держатели ак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количеству участников и размерам объединенных денежных ресурсов это самое крупное предприят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о самое дорогое и сложное по организации, но имеет большие возможности для увеличения денежных средств и расширения сферы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ционерное общ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предприятие, собственником которого выступают держатели ак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количеству участников и размерам объединенных денежных ресурсов это самое крупное предприят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о самое дорогое и сложное по организации, но имеет большие возможности для увеличения денежных средств и расширения сферы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знес (предпринимательство) – экономическая деятельность, направленная на получение прибы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знес (предпринимательство) – экономическая деятельность, направленная на получение прибыл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Формула бизне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ула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чества предпринимат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а, занимающегося бизнесом, отличает знание своего дела, смелость, инициативность, созидательная сила вместе со стремлением к прибыли и готовности рисковать, неся убыт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тоящего бизнесмена без своего дела не быва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чества предпринимат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а, занимающегося бизнесом, отличает знание своего дела, смелость, инициативность, созидательная сила вместе со стремлением к прибыли и готовности рисковать, неся убыт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тоящего бизнесмена без своего дела не быва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енный вид бизне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у производственного предпринимательства составляет производство различных экономических продуктов, необходимых потребител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амый трудный вид бизне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ителю надо много знать и уметь для того, чтобы организовать эффективное производ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т вид предпринимательства наиболее значим для экономики и общества в цел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енный вид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у производственного предпринимательства составляет производство различных экономических продуктов, необходимых потребител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самый трудный вид бизне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ителю надо много знать и уметь для того, чтобы организовать эффективное производст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т вид предпринимательства наиболее значим для экономики и общества в цел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рговый  бизне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олотое правило торгового бизнеса: купил подешевле – продал подорож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ействительности этот бизнес требует много усилий, забот и рис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говый  бизне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олотое правило торгового бизнеса: купил подешевле – продал подорож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действительности этот бизнес требует много усилий, забот и рис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ирамида торгового бизнеса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рамида торгового бизнеса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й вид бизне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особый вид предприниматель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ом может служить предоставление предпринимателем денег в долг за определенное вознагражд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ый вид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особый вид предприниматель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ром может служить предоставление предпринимателем денег в долг за определенное вознагражд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456B-9082-4243-99FE-982E4A66A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0F9D-B99E-4C3B-9CC4-7F702F2AE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F53C-22B4-4075-98EB-9E8235D5E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A83F-7C25-4544-9A41-508E97350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00C1-51DA-43ED-A320-4ECE9B056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EE51-1400-4838-88EB-A046E0E9E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7C3E-7845-4397-A3D2-BA989419F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E636-0936-4BF1-9D28-D088E1B49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E353-3198-4F02-8607-028608830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A7A0-01F6-4014-8A66-990151BB9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5FDA-C39A-4CEB-9176-B830CD095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5D01-D1A8-453B-A7B6-45013696C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18024-91E7-4557-A0BE-6625C1C4ABC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26920" y="1628640"/>
            <a:ext cx="7772400" cy="147024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иды и формы бизнес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484360" y="4723920"/>
            <a:ext cx="6400800" cy="175284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Подготовил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Ученик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8</a:t>
            </a: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 класса 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Аксёнов Григорий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8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1547640" y="2708280"/>
            <a:ext cx="759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0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звестные личн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мером успешности соединения в предпринимательстве его основных видов является деятельность итальянского семейства Медич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ни еще в 15 веке во Флоренции они организовали производство сукна, горное дело, широко развернули торговлю и операции с деньгами (предлагали людям среднего достатка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дешевые кредиты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Organization Chart 6"/>
          <p:cNvGrpSpPr/>
          <p:nvPr/>
        </p:nvGrpSpPr>
        <p:grpSpPr>
          <a:xfrm>
            <a:off x="431640" y="239760"/>
            <a:ext cx="8208360" cy="5830560"/>
            <a:chOff x="431640" y="239760"/>
            <a:chExt cx="8208360" cy="5830560"/>
          </a:xfrm>
        </p:grpSpPr>
        <p:cxnSp>
          <p:nvCxnSpPr>
            <p:cNvPr id="102" name="_s4100"/>
            <p:cNvCxnSpPr>
              <a:stCxn id="103" idx="0"/>
              <a:endCxn id="104" idx="2"/>
            </p:cNvCxnSpPr>
            <p:nvPr/>
          </p:nvCxnSpPr>
          <p:spPr>
            <a:xfrm flipV="1" rot="16200000">
              <a:off x="5388840" y="1717560"/>
              <a:ext cx="1166760" cy="2873520"/>
            </a:xfrm>
            <a:prstGeom prst="bentConnector3">
              <a:avLst>
                <a:gd name="adj1" fmla="val 978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5" name="_s4101"/>
            <p:cNvCxnSpPr>
              <a:stCxn id="106" idx="0"/>
              <a:endCxn id="104" idx="2"/>
            </p:cNvCxnSpPr>
            <p:nvPr/>
          </p:nvCxnSpPr>
          <p:spPr>
            <a:xfrm flipV="1">
              <a:off x="4536000" y="2571120"/>
              <a:ext cx="3600" cy="1166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7" name="_s4102"/>
            <p:cNvCxnSpPr>
              <a:stCxn id="108" idx="0"/>
              <a:endCxn id="104" idx="2"/>
            </p:cNvCxnSpPr>
            <p:nvPr/>
          </p:nvCxnSpPr>
          <p:spPr>
            <a:xfrm flipH="1" flipV="1" rot="5400000">
              <a:off x="2516040" y="1717920"/>
              <a:ext cx="1166760" cy="2873520"/>
            </a:xfrm>
            <a:prstGeom prst="bentConnector3">
              <a:avLst>
                <a:gd name="adj1" fmla="val 978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4" name="_s4103"/>
            <p:cNvSpPr/>
            <p:nvPr/>
          </p:nvSpPr>
          <p:spPr>
            <a:xfrm>
              <a:off x="3304440" y="239760"/>
              <a:ext cx="2462400" cy="23320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Формы бизнес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4104"/>
            <p:cNvSpPr/>
            <p:nvPr/>
          </p:nvSpPr>
          <p:spPr>
            <a:xfrm>
              <a:off x="431640" y="3738240"/>
              <a:ext cx="2462400" cy="23320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Индивидуально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редприяти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4105"/>
            <p:cNvSpPr/>
            <p:nvPr/>
          </p:nvSpPr>
          <p:spPr>
            <a:xfrm>
              <a:off x="3304440" y="3738240"/>
              <a:ext cx="2462400" cy="23320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Товарищество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4106"/>
            <p:cNvSpPr/>
            <p:nvPr/>
          </p:nvSpPr>
          <p:spPr>
            <a:xfrm>
              <a:off x="6177600" y="3738240"/>
              <a:ext cx="2462400" cy="23320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Акционерное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общество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ндивидуальное предприят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то предприятие, которым владеет и управляет один человек (он единственный хозяин, но вправе нанимать других работников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днако предприниматель несет личную ответственность за успех или неудачу предприятия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динокий воин в поле бизнеса – слабый воин. Поэтому многие предприниматели стремятся объединить свои средства и усилия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оварищест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о добровольное объединение двух или более человек для организации своего дела и совместной работ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астники объединяют свои деньги, способности и, управляя предприятием, несут коллективную ответственность за результаты его деятель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кционерное общест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то предприятие, собственником которого выступают держатели акц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 количеству участников и размерам объединенных денежных ресурсов это самое крупное предприят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но самое дорогое и сложное по организации, но имеет большие возможности для увеличения денежных средств и расширения сферы деятельно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57120" y="2214360"/>
            <a:ext cx="8429760" cy="157140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изнес (предпринимательство) – экономическая деятельность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правленная на получени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был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ормула бизнес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Diagram 7"/>
          <p:cNvGrpSpPr/>
          <p:nvPr/>
        </p:nvGrpSpPr>
        <p:grpSpPr>
          <a:xfrm>
            <a:off x="2171160" y="1920960"/>
            <a:ext cx="4728600" cy="4095360"/>
            <a:chOff x="2171160" y="1920960"/>
            <a:chExt cx="4728600" cy="4095360"/>
          </a:xfrm>
        </p:grpSpPr>
        <p:sp>
          <p:nvSpPr>
            <p:cNvPr id="55" name="_s1028"/>
            <p:cNvSpPr/>
            <p:nvPr/>
          </p:nvSpPr>
          <p:spPr>
            <a:xfrm>
              <a:off x="3092400" y="1920960"/>
              <a:ext cx="2886120" cy="2884320"/>
            </a:xfrm>
            <a:custGeom>
              <a:avLst/>
              <a:gdLst>
                <a:gd name="textAreaLeft" fmla="*/ 0 w 2886120"/>
                <a:gd name="textAreaRight" fmla="*/ 2886480 w 2886120"/>
                <a:gd name="textAreaTop" fmla="*/ 0 h 2884320"/>
                <a:gd name="textAreaBottom" fmla="*/ 2884680 h 2884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1029"/>
            <p:cNvSpPr/>
            <p:nvPr/>
          </p:nvSpPr>
          <p:spPr>
            <a:xfrm rot="7200000">
              <a:off x="3486600" y="2602440"/>
              <a:ext cx="2884320" cy="2886120"/>
            </a:xfrm>
            <a:custGeom>
              <a:avLst/>
              <a:gdLst>
                <a:gd name="textAreaLeft" fmla="*/ 0 w 2884320"/>
                <a:gd name="textAreaRight" fmla="*/ 2884680 w 2884320"/>
                <a:gd name="textAreaTop" fmla="*/ 0 h 2886120"/>
                <a:gd name="textAreaBottom" fmla="*/ 2886480 h 288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1030"/>
            <p:cNvSpPr/>
            <p:nvPr/>
          </p:nvSpPr>
          <p:spPr>
            <a:xfrm rot="14400000">
              <a:off x="2699640" y="2602440"/>
              <a:ext cx="2884320" cy="2885760"/>
            </a:xfrm>
            <a:custGeom>
              <a:avLst/>
              <a:gdLst>
                <a:gd name="textAreaLeft" fmla="*/ 0 w 2884320"/>
                <a:gd name="textAreaRight" fmla="*/ 2884680 w 2884320"/>
                <a:gd name="textAreaTop" fmla="*/ 0 h 2885760"/>
                <a:gd name="textAreaBottom" fmla="*/ 2885760 h 28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1031"/>
            <p:cNvSpPr/>
            <p:nvPr/>
          </p:nvSpPr>
          <p:spPr>
            <a:xfrm>
              <a:off x="5326200" y="2448000"/>
              <a:ext cx="1157040" cy="11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) И по завершению дела Вы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получаете свои деньги обратно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но уже с прибылью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1032"/>
            <p:cNvSpPr/>
            <p:nvPr/>
          </p:nvSpPr>
          <p:spPr>
            <a:xfrm>
              <a:off x="3959280" y="4821120"/>
              <a:ext cx="115740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)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И каждый раз пункт 1 и 2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Повторяются –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такова формула бизнес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1033"/>
            <p:cNvSpPr/>
            <p:nvPr/>
          </p:nvSpPr>
          <p:spPr>
            <a:xfrm>
              <a:off x="2585880" y="2449440"/>
              <a:ext cx="115740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1) Вы вкладывает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деньги в дел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чества предпринимател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еловека, занимающегося бизнесом, отличает знание своего дела, смелость, инициативность, созидательная сила вместе со стремлением к прибыли и готовности рисковать, неся убыт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стоящего бизнесмена без своего дела не быва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Organization Chart 7"/>
          <p:cNvGrpSpPr/>
          <p:nvPr/>
        </p:nvGrpSpPr>
        <p:grpSpPr>
          <a:xfrm>
            <a:off x="457200" y="274680"/>
            <a:ext cx="8229240" cy="5849280"/>
            <a:chOff x="457200" y="274680"/>
            <a:chExt cx="8229240" cy="5849280"/>
          </a:xfrm>
        </p:grpSpPr>
        <p:cxnSp>
          <p:nvCxnSpPr>
            <p:cNvPr id="66" name="_s2052"/>
            <p:cNvCxnSpPr>
              <a:stCxn id="67" idx="0"/>
              <a:endCxn id="68" idx="2"/>
            </p:cNvCxnSpPr>
            <p:nvPr/>
          </p:nvCxnSpPr>
          <p:spPr>
            <a:xfrm flipV="1" rot="16200000">
              <a:off x="5680440" y="1504080"/>
              <a:ext cx="1170360" cy="3389040"/>
            </a:xfrm>
            <a:prstGeom prst="bentConnector3">
              <a:avLst>
                <a:gd name="adj1" fmla="val 128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9" name="_s2053"/>
            <p:cNvCxnSpPr>
              <a:stCxn id="70" idx="0"/>
              <a:endCxn id="68" idx="2"/>
            </p:cNvCxnSpPr>
            <p:nvPr/>
          </p:nvCxnSpPr>
          <p:spPr>
            <a:xfrm flipV="1" rot="16200000">
              <a:off x="4833360" y="2351160"/>
              <a:ext cx="1170360" cy="1694880"/>
            </a:xfrm>
            <a:prstGeom prst="bentConnector3">
              <a:avLst>
                <a:gd name="adj1" fmla="val 128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1" name="_s2054"/>
            <p:cNvCxnSpPr>
              <a:stCxn id="72" idx="0"/>
              <a:endCxn id="68" idx="2"/>
            </p:cNvCxnSpPr>
            <p:nvPr/>
          </p:nvCxnSpPr>
          <p:spPr>
            <a:xfrm flipV="1">
              <a:off x="4571280" y="2613600"/>
              <a:ext cx="2520" cy="1170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3" name="_s2055"/>
            <p:cNvCxnSpPr>
              <a:stCxn id="74" idx="0"/>
              <a:endCxn id="68" idx="2"/>
            </p:cNvCxnSpPr>
            <p:nvPr/>
          </p:nvCxnSpPr>
          <p:spPr>
            <a:xfrm flipH="1" flipV="1" rot="5400000">
              <a:off x="3139560" y="2351520"/>
              <a:ext cx="1170360" cy="1694880"/>
            </a:xfrm>
            <a:prstGeom prst="bentConnector3">
              <a:avLst>
                <a:gd name="adj1" fmla="val 128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5" name="_s2056"/>
            <p:cNvCxnSpPr>
              <a:stCxn id="76" idx="0"/>
              <a:endCxn id="68" idx="2"/>
            </p:cNvCxnSpPr>
            <p:nvPr/>
          </p:nvCxnSpPr>
          <p:spPr>
            <a:xfrm flipH="1" flipV="1" rot="5400000">
              <a:off x="2293200" y="1505160"/>
              <a:ext cx="1170360" cy="3387240"/>
            </a:xfrm>
            <a:prstGeom prst="bentConnector3">
              <a:avLst>
                <a:gd name="adj1" fmla="val 128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8" name="_s2057"/>
            <p:cNvSpPr/>
            <p:nvPr/>
          </p:nvSpPr>
          <p:spPr>
            <a:xfrm>
              <a:off x="3845520" y="274680"/>
              <a:ext cx="1452240" cy="2339640"/>
            </a:xfrm>
            <a:custGeom>
              <a:avLst/>
              <a:gdLst>
                <a:gd name="textAreaLeft" fmla="*/ 70560 w 1452240"/>
                <a:gd name="textAreaRight" fmla="*/ 1381680 w 1452240"/>
                <a:gd name="textAreaTop" fmla="*/ 70560 h 2339640"/>
                <a:gd name="textAreaBottom" fmla="*/ 2269080 h 2339640"/>
              </a:gdLst>
              <a:ahLst/>
              <a:rect l="textAreaLeft" t="textAreaTop" r="textAreaRight" b="textAreaBottom"/>
              <a:pathLst>
                <a:path w="21600" h="34796">
                  <a:moveTo>
                    <a:pt x="3600" y="0"/>
                  </a:moveTo>
                  <a:arcTo wR="3600" hR="3600" stAng="16200000" swAng="-5400000"/>
                  <a:lnTo>
                    <a:pt x="0" y="31196"/>
                  </a:lnTo>
                  <a:arcTo wR="3600" hR="3600" stAng="10800000" swAng="-5400000"/>
                  <a:lnTo>
                    <a:pt x="18000" y="347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Виды бизнеса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2058"/>
            <p:cNvSpPr/>
            <p:nvPr/>
          </p:nvSpPr>
          <p:spPr>
            <a:xfrm>
              <a:off x="457200" y="3784320"/>
              <a:ext cx="1452240" cy="2339640"/>
            </a:xfrm>
            <a:custGeom>
              <a:avLst/>
              <a:gdLst>
                <a:gd name="textAreaLeft" fmla="*/ 70560 w 1452240"/>
                <a:gd name="textAreaRight" fmla="*/ 1381680 w 1452240"/>
                <a:gd name="textAreaTop" fmla="*/ 70560 h 2339640"/>
                <a:gd name="textAreaBottom" fmla="*/ 2269080 h 2339640"/>
              </a:gdLst>
              <a:ahLst/>
              <a:rect l="textAreaLeft" t="textAreaTop" r="textAreaRight" b="textAreaBottom"/>
              <a:pathLst>
                <a:path w="21600" h="34796">
                  <a:moveTo>
                    <a:pt x="3600" y="0"/>
                  </a:moveTo>
                  <a:arcTo wR="3600" hR="3600" stAng="16200000" swAng="-5400000"/>
                  <a:lnTo>
                    <a:pt x="0" y="31196"/>
                  </a:lnTo>
                  <a:arcTo wR="3600" hR="3600" stAng="10800000" swAng="-5400000"/>
                  <a:lnTo>
                    <a:pt x="18000" y="347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Производственны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2059"/>
            <p:cNvSpPr/>
            <p:nvPr/>
          </p:nvSpPr>
          <p:spPr>
            <a:xfrm>
              <a:off x="2151360" y="3784320"/>
              <a:ext cx="1452240" cy="2339640"/>
            </a:xfrm>
            <a:custGeom>
              <a:avLst/>
              <a:gdLst>
                <a:gd name="textAreaLeft" fmla="*/ 70560 w 1452240"/>
                <a:gd name="textAreaRight" fmla="*/ 1381680 w 1452240"/>
                <a:gd name="textAreaTop" fmla="*/ 70560 h 2339640"/>
                <a:gd name="textAreaBottom" fmla="*/ 2269080 h 2339640"/>
              </a:gdLst>
              <a:ahLst/>
              <a:rect l="textAreaLeft" t="textAreaTop" r="textAreaRight" b="textAreaBottom"/>
              <a:pathLst>
                <a:path w="21600" h="34796">
                  <a:moveTo>
                    <a:pt x="3600" y="0"/>
                  </a:moveTo>
                  <a:arcTo wR="3600" hR="3600" stAng="16200000" swAng="-5400000"/>
                  <a:lnTo>
                    <a:pt x="0" y="31196"/>
                  </a:lnTo>
                  <a:arcTo wR="3600" hR="3600" stAng="10800000" swAng="-5400000"/>
                  <a:lnTo>
                    <a:pt x="18000" y="347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Торговы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2060"/>
            <p:cNvSpPr/>
            <p:nvPr/>
          </p:nvSpPr>
          <p:spPr>
            <a:xfrm>
              <a:off x="3845520" y="3784320"/>
              <a:ext cx="1452240" cy="2339640"/>
            </a:xfrm>
            <a:custGeom>
              <a:avLst/>
              <a:gdLst>
                <a:gd name="textAreaLeft" fmla="*/ 70560 w 1452240"/>
                <a:gd name="textAreaRight" fmla="*/ 1381680 w 1452240"/>
                <a:gd name="textAreaTop" fmla="*/ 70560 h 2339640"/>
                <a:gd name="textAreaBottom" fmla="*/ 2269080 h 2339640"/>
              </a:gdLst>
              <a:ahLst/>
              <a:rect l="textAreaLeft" t="textAreaTop" r="textAreaRight" b="textAreaBottom"/>
              <a:pathLst>
                <a:path w="21600" h="34796">
                  <a:moveTo>
                    <a:pt x="3600" y="0"/>
                  </a:moveTo>
                  <a:arcTo wR="3600" hR="3600" stAng="16200000" swAng="-5400000"/>
                  <a:lnTo>
                    <a:pt x="0" y="31196"/>
                  </a:lnTo>
                  <a:arcTo wR="3600" hR="3600" stAng="10800000" swAng="-5400000"/>
                  <a:lnTo>
                    <a:pt x="18000" y="347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Финансовы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2061"/>
            <p:cNvSpPr/>
            <p:nvPr/>
          </p:nvSpPr>
          <p:spPr>
            <a:xfrm>
              <a:off x="5540040" y="3784320"/>
              <a:ext cx="1452240" cy="2339640"/>
            </a:xfrm>
            <a:custGeom>
              <a:avLst/>
              <a:gdLst>
                <a:gd name="textAreaLeft" fmla="*/ 70560 w 1452240"/>
                <a:gd name="textAreaRight" fmla="*/ 1381680 w 1452240"/>
                <a:gd name="textAreaTop" fmla="*/ 70560 h 2339640"/>
                <a:gd name="textAreaBottom" fmla="*/ 2269080 h 2339640"/>
              </a:gdLst>
              <a:ahLst/>
              <a:rect l="textAreaLeft" t="textAreaTop" r="textAreaRight" b="textAreaBottom"/>
              <a:pathLst>
                <a:path w="21600" h="34796">
                  <a:moveTo>
                    <a:pt x="3600" y="0"/>
                  </a:moveTo>
                  <a:arcTo wR="3600" hR="3600" stAng="16200000" swAng="-5400000"/>
                  <a:lnTo>
                    <a:pt x="0" y="31196"/>
                  </a:lnTo>
                  <a:arcTo wR="3600" hR="3600" stAng="10800000" swAng="-5400000"/>
                  <a:lnTo>
                    <a:pt x="18000" y="347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Страхово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2062"/>
            <p:cNvSpPr/>
            <p:nvPr/>
          </p:nvSpPr>
          <p:spPr>
            <a:xfrm>
              <a:off x="7234200" y="3784320"/>
              <a:ext cx="1452240" cy="2339640"/>
            </a:xfrm>
            <a:custGeom>
              <a:avLst/>
              <a:gdLst>
                <a:gd name="textAreaLeft" fmla="*/ 70560 w 1452240"/>
                <a:gd name="textAreaRight" fmla="*/ 1381680 w 1452240"/>
                <a:gd name="textAreaTop" fmla="*/ 70560 h 2339640"/>
                <a:gd name="textAreaBottom" fmla="*/ 2269080 h 2339640"/>
              </a:gdLst>
              <a:ahLst/>
              <a:rect l="textAreaLeft" t="textAreaTop" r="textAreaRight" b="textAreaBottom"/>
              <a:pathLst>
                <a:path w="21600" h="34796">
                  <a:moveTo>
                    <a:pt x="3600" y="0"/>
                  </a:moveTo>
                  <a:arcTo wR="3600" hR="3600" stAng="16200000" swAng="-5400000"/>
                  <a:lnTo>
                    <a:pt x="0" y="31196"/>
                  </a:lnTo>
                  <a:arcTo wR="3600" hR="3600" stAng="10800000" swAng="-5400000"/>
                  <a:lnTo>
                    <a:pt x="18000" y="347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Посреднически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оизводственный вид бизнес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снову производственного предпринимательства составляет производство различных экономических продуктов, необходимых потребителя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то самый трудный вид бизнес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изводителю надо много знать и уметь для того, чтобы организовать эффективное производств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тот вид предпринимательства наиболее значим для экономики и общества в цело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орговый  бизне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Золотое правило торгового бизнеса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купил подешевле – продал подорож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действительности этот бизнес требует много усилий, забот и рис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ирамида торгового бизнеса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5" name="Diagram 6"/>
          <p:cNvGrpSpPr/>
          <p:nvPr/>
        </p:nvGrpSpPr>
        <p:grpSpPr>
          <a:xfrm>
            <a:off x="2308320" y="1903320"/>
            <a:ext cx="4527360" cy="3921120"/>
            <a:chOff x="2308320" y="1903320"/>
            <a:chExt cx="4527360" cy="3921120"/>
          </a:xfrm>
        </p:grpSpPr>
        <p:sp>
          <p:nvSpPr>
            <p:cNvPr id="86" name="_s3076"/>
            <p:cNvSpPr/>
            <p:nvPr/>
          </p:nvSpPr>
          <p:spPr>
            <a:xfrm flipV="1">
              <a:off x="4119480" y="1903320"/>
              <a:ext cx="905040" cy="784080"/>
            </a:xfrm>
            <a:custGeom>
              <a:avLst/>
              <a:gdLst>
                <a:gd name="textAreaLeft" fmla="*/ 324720 w 905040"/>
                <a:gd name="textAreaRight" fmla="*/ 580320 w 905040"/>
                <a:gd name="textAreaTop" fmla="*/ 281160 h 784080"/>
                <a:gd name="textAreaBottom" fmla="*/ 502920 h 78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Ремесленный бизнес порождал торговый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Ведь производимые товары надо было продавать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_s3077"/>
            <p:cNvSpPr/>
            <p:nvPr/>
          </p:nvSpPr>
          <p:spPr>
            <a:xfrm flipV="1">
              <a:off x="3666960" y="2686680"/>
              <a:ext cx="1810080" cy="784440"/>
            </a:xfrm>
            <a:custGeom>
              <a:avLst/>
              <a:gdLst>
                <a:gd name="textAreaLeft" fmla="*/ 397800 w 1810080"/>
                <a:gd name="textAreaRight" fmla="*/ 1412280 w 1810080"/>
                <a:gd name="textAreaTop" fmla="*/ 172440 h 784440"/>
                <a:gd name="textAreaBottom" fmla="*/ 612000 h 78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Торговое предпринимательство тесно связано с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Куплей-продажей товаров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3078"/>
            <p:cNvSpPr/>
            <p:nvPr/>
          </p:nvSpPr>
          <p:spPr>
            <a:xfrm flipV="1">
              <a:off x="3213000" y="3471840"/>
              <a:ext cx="2718000" cy="784080"/>
            </a:xfrm>
            <a:custGeom>
              <a:avLst/>
              <a:gdLst>
                <a:gd name="textAreaLeft" fmla="*/ 471600 w 2718000"/>
                <a:gd name="textAreaRight" fmla="*/ 2246400 w 2718000"/>
                <a:gd name="textAreaTop" fmla="*/ 136080 h 784080"/>
                <a:gd name="textAreaBottom" fmla="*/ 648000 h 78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Оплата труда торговц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_s3079"/>
            <p:cNvSpPr/>
            <p:nvPr/>
          </p:nvSpPr>
          <p:spPr>
            <a:xfrm flipV="1">
              <a:off x="2760480" y="4255200"/>
              <a:ext cx="3622680" cy="784440"/>
            </a:xfrm>
            <a:custGeom>
              <a:avLst/>
              <a:gdLst>
                <a:gd name="textAreaLeft" fmla="*/ 545040 w 3622680"/>
                <a:gd name="textAreaRight" fmla="*/ 3077640 w 3622680"/>
                <a:gd name="textAreaTop" fmla="*/ 118080 h 784440"/>
                <a:gd name="textAreaBottom" fmla="*/ 666360 h 78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Доставка и хранение товаро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3080"/>
            <p:cNvSpPr/>
            <p:nvPr/>
          </p:nvSpPr>
          <p:spPr>
            <a:xfrm flipV="1">
              <a:off x="2308320" y="5040360"/>
              <a:ext cx="4527360" cy="784080"/>
            </a:xfrm>
            <a:custGeom>
              <a:avLst/>
              <a:gdLst>
                <a:gd name="textAreaLeft" fmla="*/ 618120 w 4527360"/>
                <a:gd name="textAreaRight" fmla="*/ 3909240 w 4527360"/>
                <a:gd name="textAreaTop" fmla="*/ 106920 h 784080"/>
                <a:gd name="textAreaBottom" fmla="*/ 677160 h 78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Содержание торгового помеще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Финансовый вид бизнес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о особый вид предпринимательст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мером может служить предоставление предпринимателем денег в долг за определенное вознагражде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1T18:28:28Z</dcterms:created>
  <dc:creator>Саша</dc:creator>
  <dc:description/>
  <dc:language>en-US</dc:language>
  <cp:lastModifiedBy>LEGION</cp:lastModifiedBy>
  <dcterms:modified xsi:type="dcterms:W3CDTF">2016-01-05T12:43:54Z</dcterms:modified>
  <cp:revision>12</cp:revision>
  <dc:subject/>
  <dc:title>Виды и формы бизнеса</dc:title>
</cp:coreProperties>
</file>